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B7F4-1735-4C31-B934-AFB29993C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85F7-7341-48DF-8B3A-F987E1508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teachers to be honest.  Acknowledge the issues.  Then put it aside and concentrate on what we can achie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 teachers believe that literacy teaching will help- then at least you have ac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A864-9163-4448-ABCB-D64003BEB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427A-8E1D-4CDC-844B-15283A47B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have to do it?   What happens if you don’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ill blame other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ose some questions for you –to think about as I introduce ‘surfacing teacher beliefs- the purpose of these images is to set the tone for surfacing the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C8C2-3C25-4C3D-B0E7-49637430B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is show clear dire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eachers meet-what are trying to achie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outco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F1C7-913C-43A9-9342-5E52C642C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focus groups-how will you know you are getting somew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guides you in your focus grou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63ED-3A83-46B6-83CC-B5308E9A6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eachers believe literacy teaching is going to help their students achieve-they will set full sail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y don’t –they will not achiev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09B9-3D07-4105-8591-226FC356D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CAC4-D403-4BD2-8DC5-F6772E452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8" descr=""/>
          <p:cNvPicPr/>
          <p:nvPr/>
        </p:nvPicPr>
        <p:blipFill>
          <a:blip r:embed="rId3"/>
          <a:stretch/>
        </p:blipFill>
        <p:spPr>
          <a:xfrm>
            <a:off x="6781680" y="380880"/>
            <a:ext cx="1981440" cy="87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"/>
          <p:cNvPicPr/>
          <p:nvPr/>
        </p:nvPicPr>
        <p:blipFill>
          <a:blip r:embed="rId4"/>
          <a:stretch/>
        </p:blipFill>
        <p:spPr>
          <a:xfrm>
            <a:off x="7010280" y="5867280"/>
            <a:ext cx="1828800" cy="80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rewa High Schoo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teracy Tea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udent Achievement Contrac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cus on writing and middle leadership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3733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80880" y="4952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57200" y="5105520"/>
            <a:ext cx="4952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17680" y="5308560"/>
            <a:ext cx="212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na Madgw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ndy Wy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m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your post-its into the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el your catego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knowledge what is outside teachers influ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the positive-what teachers can influ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gether you have identified what your teachers believe makes a difference to students’ writing.  This sets a direction for your next ste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makes a literacy lead team work effectively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instorm together what makes a literacy team highly effective?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really specif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 up with a list of literacy lead team protoco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Highly effective lead team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clear 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greed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purpose for their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collective respons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open and embrace risk t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networking/partner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sure outcomes are achie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student focus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ase-line da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types of data was collected as a snapsh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Time students spent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Effective writing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Student v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writing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ing is not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ing is “creating meaningful text shaped for a specific purpose and audienc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HS-Baseline da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Content Placeholder 3"/>
          <p:cNvGraphicFramePr/>
          <p:nvPr/>
        </p:nvGraphicFramePr>
        <p:xfrm>
          <a:off x="685800" y="2057400"/>
          <a:ext cx="77724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7724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990720" y="-6793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676520"/>
          <a:ext cx="758196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58196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8"/>
          <p:cNvSpPr/>
          <p:nvPr/>
        </p:nvSpPr>
        <p:spPr>
          <a:xfrm>
            <a:off x="609480" y="762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writing principles-baselin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does the teacher do to help you write an excellent piece of writing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ovides notes and examples-proof reads, gives feedback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ses ppt- flags important parts.  We do lots of note-taking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eminds us the key concepts but doesn’t give us the answers- so we have to figure things out.  Simplifies thing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oes through our weaknesses, puts us into mixed ability groups.  It really helps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xplains the work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hing really.  He/she has never talked about excellence.  He/she says just to pass. Other teachers talk about excellence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 Biology I know that structure will help me get an achieved but to get to merit I need to describe the function and excellence- I need to compare/contrast-It is similar in geography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urfacing belief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Content Placeholder 3" descr=""/>
          <p:cNvPicPr/>
          <p:nvPr/>
        </p:nvPicPr>
        <p:blipFill>
          <a:blip r:embed="rId1"/>
          <a:srcRect l="-10159" t="0" r="-10159" b="0"/>
          <a:stretch/>
        </p:blipFill>
        <p:spPr>
          <a:xfrm>
            <a:off x="6858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1219320" y="6126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acilitator reflections-MH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xture of group and individual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mostly high expectations-but one class of low expec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highly scaffolded tasks in some class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evidence of success criteria-(What does a good piece of writing look like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How are we going to know that we are making progress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instorm different wa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xt meetin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may form pairs from the literacy team at Alfriston Colle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ject-specific facilitators will join us (if available) to help identify the writing demands from a student sample of an identified class and plan strateg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efore the next meetin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you get some baseline data for a senior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ng it to the next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 something from today with your depar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the vision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Content Placeholder 3" descr="emirates-vs-desafio.jpg"/>
          <p:cNvPicPr/>
          <p:nvPr/>
        </p:nvPicPr>
        <p:blipFill>
          <a:blip r:embed="rId1"/>
          <a:srcRect l="-18181" t="0" r="-18181" b="0"/>
          <a:stretch/>
        </p:blipFill>
        <p:spPr>
          <a:xfrm>
            <a:off x="6858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143000" y="63104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 goals set the direction for where you are h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ssible vis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Through cross-curricular collaboration and inquiry, middle leaders are  empowered to support teachers to develop responsive pedagogies that make a difference to students’ learning with a focus on writing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ssible Goal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leaders to identify a specific learning need for one focus class.  Trial strategies and reflect on the impact of their strateg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leaders to increase their understanding of effective pedagogy in writing in their subjec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leaders to lead their departments to implement their own inquiries into effective teaching of writing that makes a difference to student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going to guide you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Content Placeholder 3" descr="change direction.jpeg"/>
          <p:cNvPicPr/>
          <p:nvPr/>
        </p:nvPicPr>
        <p:blipFill>
          <a:blip r:embed="rId1"/>
          <a:srcRect l="-74542" t="0" r="-74542" b="0"/>
          <a:stretch/>
        </p:blipFill>
        <p:spPr>
          <a:xfrm>
            <a:off x="6858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371600" y="61261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at each meeting helps you decide whether you need to change/ adapt /refine or 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evidence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ed strategies to t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ng task/ student work/ student v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ations-establish goals/feedback and feedforward of your own classroom pedag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ations- establish goals/feedback and feedforward for leading your department on an inquiry to improve students’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do you believe will make a difference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Content Placeholder 3" descr="broken sail.jpg"/>
          <p:cNvPicPr/>
          <p:nvPr/>
        </p:nvPicPr>
        <p:blipFill>
          <a:blip r:embed="rId1"/>
          <a:srcRect l="-10608" t="0" r="-10608" b="0"/>
          <a:stretch/>
        </p:blipFill>
        <p:spPr>
          <a:xfrm>
            <a:off x="685800" y="2057400"/>
            <a:ext cx="77724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219320" y="6126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atter what PD is given to your teachers if they don’t believe it makes a difference-nothing will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do you believe influences students’  writing?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ly brainstorm all the major influences that affect students’ writing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ost-its and write one factor per post-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roups of 3, share your ide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your ideas into groups/the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rt your ideas into two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Factors outside your influence as a teac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Factors that you can influence as a tea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00:38:05Z</dcterms:created>
  <dc:creator/>
  <dc:description/>
  <dc:language>en-US</dc:language>
  <cp:lastModifiedBy>a.madgwick</cp:lastModifiedBy>
  <cp:lastPrinted>2012-08-16T00:51:40Z</cp:lastPrinted>
  <dcterms:modified xsi:type="dcterms:W3CDTF">2012-08-16T00:52:44Z</dcterms:modified>
  <cp:revision>8</cp:revision>
  <dc:subject/>
  <dc:title>Professional Learning  and Development:  Best Evidence Synthesis  </dc:title>
</cp:coreProperties>
</file>